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BDE-03A5-416C-8F5E-400B25D0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1F6-6101-4F0D-B3E2-47105EF3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0DD0A-F4FE-4534-9CE3-E1DA81EA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A54655-B163-4750-A160-DBAB14AC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3E0E8A-6315-49CB-8204-E399D468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EFB6F-88C8-4363-ACCB-A412A058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7006C-9716-4FDA-A1DF-0A8214E8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C1D9BC-68D3-4C9A-8061-F9EB35EA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5C6389-B32B-46D1-B215-665C17E8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39140-CF73-4386-808D-70BC0E9E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A58E2C-9B9B-4E79-A5FE-AB94B33F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F81454-FAD8-4DD2-A624-D57372EB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F1B-3A97-4B21-9A96-111CE71C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B0A016-632C-41B2-94A3-81408693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83CB04-C56A-4F48-A647-ACEF5EE9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EF8FC-8D26-4562-ADCF-6FA032AB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21373-E5DB-4AEA-9EAD-550FEB63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C4393-02DA-4EB8-AB44-A4C8463D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CC43B-BC99-40DD-8654-332DA437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6AD299-23DF-484D-81F7-0D8BC781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4DA306-133E-4944-95B4-0C22A32D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9C25F9-18CD-4F4C-8139-7A705932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F2EB6B-5627-40DF-9474-5714C70D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6AC0-23C1-492C-9CAB-F419D33E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20CDCF-0454-4DAB-A6AA-73162498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5F02E-CCA9-440B-8EAC-E8144CCB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001BA-1048-43BD-8E2B-C7508821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B575A-9A94-4D6E-97FE-024E9553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92134-3DE6-4684-BB62-EE81CCD6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262DE-CAAD-456F-8141-9137296A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8887A-B21E-4A13-B8A0-185E2C17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E0E6D-60A5-4A98-9D3D-F68B3E50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398B9-4957-4E4D-ABE7-FF13B70A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ADDD2-A6A7-43CD-B0F3-E3DE1B2C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F35C-D136-49C4-ACD8-43AC1B30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E1B0C-F9B9-47DA-B4CB-8FE40FFD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23D38-7738-418B-9108-8F50B390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1BBF0-5644-4B27-868E-A7F48233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6B3014-CADE-4DD2-B774-8958CD6E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B0BD0-2377-4C8F-AF96-D32E4804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CE865D-C868-445E-A034-C8A61F90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1BAD63-E816-4CC6-B9AF-7FB351BA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C10F4-9194-432C-B64F-B972A8E2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A8E97D-1CCE-4A8D-852B-D05C72E6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F229E-34E6-423B-A46C-BD65EBDB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0A63-24DC-474C-8105-BC1D3906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FDB0F6-FC80-47D7-81A6-3448C417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4BC7B-99DC-434B-8BD8-E4E66C11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09ACB-4BF3-4B6F-9A57-7DD50D85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A736C3-5314-43FD-8ED1-48DB3224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53EFC-4DCF-49DF-B7F3-88BA9C93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ABFD-59AF-4613-9869-1814F981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6A33-C9C7-4A56-91B1-681FEC0A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C022-FBF1-4067-BB6B-63CCC792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C901-E3CD-406A-A5DD-C95F8664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065A-4B0A-4CD8-8360-6E6A3675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9D8-CF88-473F-AC53-562223D4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B67B-DD28-4A80-9694-6B7A071F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AD5B-A01A-406E-A549-6AD8A6B8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50F4-786E-4F89-9991-D6B4590D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9B85-2132-4E66-94AC-AFBD7708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C881-385C-4879-89E1-C45C12FF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74CDD-D682-4598-89FB-2B4FC9D8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19B72-9E34-4253-8A0A-DAF6AA22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3669A-4E44-4830-8405-375FD313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CB3EC-32D7-4F09-8528-59B60AA2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6908C-4A50-4065-9EF2-1E4BADD0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75B-D88C-4659-9A68-05CF8307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54771-4C56-4BF2-8987-B59BD78E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3391A-CB1C-4DDF-8F5E-667C286D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F425F-A74B-4311-84CF-698A4D41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608AE-1B95-4E61-8369-5A49C94F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B6DFD-F140-49DB-844B-AABF747B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23529-744E-48D5-8795-B08B1DF4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F35BD-5A87-4751-9F50-B6447641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9D382-0250-4A69-9701-2B0BF556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3A959-E83E-48CD-85B3-9DA8BB22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01136-2CBF-4070-BB64-82BC9D9C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3D61-1E32-4910-8022-E268AA74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6F213-6433-437E-B4B8-5D89A95E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2DEDD-2648-472C-A500-4F56D048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FCB9F-B910-4F5D-B5DE-ADEFA2BC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690C9-9961-4F69-98B0-42508EB5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C144B-D78F-425F-B1D3-F15A18E0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7A3FF-8D49-4F54-BB65-C2AA8387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B0474-B0EE-4E1A-BC73-1054AF60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585D5-C368-4A67-8FF4-428A9654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EC976-137E-4736-AFC1-10CBA706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559DC-C045-40C8-8475-A7422EA6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0F1B-B658-48E3-9547-4604CEF4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FA364-4631-4E19-8760-9BB491D2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CEE70-DD8B-4AF6-8428-30C39109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F0478-6021-4D3C-B3B9-8DDE2E9C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11BA5-A556-4C76-9DF4-1ABDA992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839A4-AEC6-4D0E-9CC7-7BF1376B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BEA54-A3DC-4384-8399-ABEE39E5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71F27-97EF-49C5-A605-DD4236AD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E9AF7-75B5-401C-9966-649DA8B9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877C6-EE02-45D4-AA5A-D4B4ED11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9AA2C-82FA-4FFA-AB22-CC60AC5D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7AA-C00A-406A-A100-75180C1C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9B709-5216-4857-8147-16F25450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6667B-D248-4033-AF9F-B005307B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23A3B-6378-403E-B2BE-6D9E0B70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3F55D-77A7-4325-B3F1-12CD7850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466E5-F575-42FB-98D7-EDD16945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E033A-2116-4824-8579-67ABA1F6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96F7C-2E38-4733-99DA-A9E26232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84284-F6A9-4C30-8162-02822C83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D8293-AD09-4459-976F-4DE74CDF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33DA9-18DD-43F4-942B-81C6AA4E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7314-CC79-45E0-9230-F72A2C66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07B3C-B5BC-4362-8589-068F188E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5DF0E-2D2D-4D95-89A2-2AD9737F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58172-FDBF-47EB-BBC4-6E4EC5BA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52446-49F3-4793-9127-EC3C31DA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D8112-CE79-4C23-ABF6-97B2B740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3901E-DF59-4B13-A77F-7751A1B6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6C42E-7890-4B78-BBB8-4BB433FF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E607F-4838-4B51-BDDA-ECF26041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66EE5-0867-42F3-BEB0-D5A82BAD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55686-B24F-4602-9D31-35E9B8AD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34D-1A81-4236-84F7-A1D83DDD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D685F-51D7-4732-9ED9-F7374E75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4E91F-424F-48DA-A1A3-B4189C59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A4411-73BF-4FE1-9936-5DF4760B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A79F9-C24B-4FD7-8DED-916296EB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424D3-0248-444E-BF68-0CCB8E33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93674-9648-4117-9478-F50932E2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B193E-1C9D-4DF0-AD93-277E3411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2584E-11CD-4F42-80DD-7A41B279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5984D-E78D-4FDC-96E2-93A597E8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DFBA9-E011-4BA6-8A51-DF013B2A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76C2-936A-4FBF-9E4C-4E9BD240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296CC-8D7D-4B61-9C5F-C5E2BCB2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F3641-4A56-4623-A266-1AE199B6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77D67-6E87-48C1-BAD3-9669B217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1A4B8-E372-422E-B4D1-414DCF32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F9600-9BDE-4B00-997E-7D47AC63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0272D-09F1-4F78-B638-2FE7A31F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5FC0D-EB38-48C1-9AC4-B2F536C3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BA1A1-2A2B-4C4D-81ED-CB4F6226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D7824-F1A3-409A-91C5-3EE7541E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EF03C5-F232-4CB4-AA83-9D485BAD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F48C-D6BF-4BDB-96C2-EBE48A63DA28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Birbaşa Birləşdirici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üzbucaqlı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Düzbucaqlı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üzbucaqlı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üzbucaqlı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98C8-F3AB-4740-BCC9-6C154B7692D3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25D4-C09E-4E21-9F0F-945BFD0315AA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üzbucaqlı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üzbucaqlı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üzbucaqlı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Birbaşa Birləşdirici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50C7-3697-488D-ACE1-DC6194392C84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üzbucaqlı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üzbucaqlı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üzbucaqlı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irbaşa Birləşdirici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9FAC-790A-40D7-8811-5F940F488873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197F-5233-48FA-AD1D-0C2C04A3BE3C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üzbucaqlı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üzbucaqlı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üzbucaqlı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üzbucaqlı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üzbucaqlı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üzbucaqlı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üzbucaqlı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irbaşa Birləşdirici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2A97-529A-4382-985B-7E1D2D784161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irbaşa Birləşdirici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1CDC-883F-444F-89A7-9E3AFF9BE8BE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Birbaşa Birləşdirici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üzbucaqlı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üzbucaqlı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üzbucaqlı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üzbucaqlı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üzbucaqlı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Birbaşa Birləşdirici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üzbucaqlı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4B2F-15A1-4616-9F5D-E1037D3EBBC3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DD95-2AD1-4778-830A-2CAE01DE362F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üzbucaqlı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üzbucaqlı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581F-80E9-4401-872D-D9C36B20F0D7}" type="slidenum">
              <a:rPr b="0" lang="az-Latn-A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üzbucaqlı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üzbucaqlı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üzbucaqlı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irbaşa Birləşdirici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BE55-D776-49E0-BDE8-7599F4403E5B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Georgia"/>
              </a:rPr>
              <a:t>The Central Eurasian Region in the Contemporary Architecture of the World Monetary and Financial System</a:t>
            </a:r>
            <a:endParaRPr b="0" lang="en-US" sz="2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Mətn Qutusu 5"/>
          <p:cNvSpPr/>
          <p:nvPr/>
        </p:nvSpPr>
        <p:spPr>
          <a:xfrm>
            <a:off x="1143000" y="571680"/>
            <a:ext cx="68580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INTER-REGONAL BANKING COOPERATION: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SOLID FINANCIAL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MAY 27, 2010, B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14880" y="4857840"/>
            <a:ext cx="4562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DAR ISMA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ZERBAIJAN BANK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1. Structure of Central Eurasia’s 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Geopolitical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rcRect l="2632" t="18233" r="2632" b="3916"/>
          <a:stretch/>
        </p:blipFill>
        <p:spPr>
          <a:xfrm>
            <a:off x="492120" y="2000160"/>
            <a:ext cx="8151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08800" cy="45003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584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2. The CEA Countries in the Glob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onetary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400" spc="-1" strike="noStrike">
                <a:solidFill>
                  <a:srgbClr val="000066"/>
                </a:solidFill>
                <a:latin typeface="Georgia"/>
              </a:rPr>
              <a:t>Slide 4.</a:t>
            </a: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Indices of CEA, World and Regional Nations and Associations 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35000" y="1643040"/>
          <a:ext cx="7323120" cy="4361040"/>
        </p:xfrm>
        <a:graphic>
          <a:graphicData uri="http://schemas.openxmlformats.org/drawingml/2006/table">
            <a:tbl>
              <a:tblPr/>
              <a:tblGrid>
                <a:gridCol w="2190960"/>
                <a:gridCol w="1852560"/>
                <a:gridCol w="1736640"/>
                <a:gridCol w="1542960"/>
              </a:tblGrid>
              <a:tr h="277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04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4. Main Trade Partners of the CEA Countr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604800" y="1643040"/>
            <a:ext cx="7934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5.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West-East and North-Sout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Currency Axe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393920" y="1606680"/>
            <a:ext cx="635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34:54Z</dcterms:created>
  <dc:creator>ABA-BBM</dc:creator>
  <dc:description/>
  <dc:language>en-US</dc:language>
  <cp:lastModifiedBy>ABA-BBM</cp:lastModifiedBy>
  <dcterms:modified xsi:type="dcterms:W3CDTF">2010-05-26T13:27:21Z</dcterms:modified>
  <cp:revision>35</cp:revision>
  <dc:subject/>
  <dc:title>Slayd 1</dc:title>
</cp:coreProperties>
</file>